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2ABF-FBB3-4EEB-A834-C4C5DB5F97C6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E512-BC30-4501-BD59-0AF8872B94FB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A66E-DF67-4BE5-90AD-9542CD013FD4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391320" y="299880"/>
            <a:ext cx="436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Module Template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Subtitle; Version 1.0, Reviewed 9/15/11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pache.org/licenses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Working with your archive organization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4280" y="4952880"/>
            <a:ext cx="995688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obert R. Downs, PhD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Socioeconomic Data and Applications Center (SEDAC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enter for International Earth Science Information Network (CIESIN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olumbia Universit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ecember 6, 2011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4" name="Picture 8" descr=""/>
          <p:cNvPicPr/>
          <p:nvPr/>
        </p:nvPicPr>
        <p:blipFill>
          <a:blip r:embed="rId3"/>
          <a:stretch/>
        </p:blipFill>
        <p:spPr>
          <a:xfrm>
            <a:off x="4154400" y="7658280"/>
            <a:ext cx="2500560" cy="175248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6" descr=""/>
          <p:cNvPicPr/>
          <p:nvPr/>
        </p:nvPicPr>
        <p:blipFill>
          <a:blip r:embed="rId4"/>
          <a:stretch/>
        </p:blipFill>
        <p:spPr>
          <a:xfrm>
            <a:off x="6692760" y="7924680"/>
            <a:ext cx="1125720" cy="1204920"/>
          </a:xfrm>
          <a:prstGeom prst="rect">
            <a:avLst/>
          </a:prstGeom>
          <a:ln w="0">
            <a:noFill/>
          </a:ln>
        </p:spPr>
      </p:pic>
      <p:sp>
        <p:nvSpPr>
          <p:cNvPr id="746" name="TextBox 8"/>
          <p:cNvSpPr/>
          <p:nvPr/>
        </p:nvSpPr>
        <p:spPr>
          <a:xfrm>
            <a:off x="4122360" y="9321840"/>
            <a:ext cx="73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Neue Light"/>
              </a:rPr>
              <a:t>Copyright 2011. The Trustees of Columbia University in the City of New York</a:t>
            </a:r>
            <a:endParaRPr b="0" lang="en-US" sz="16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7" name="Picture 4" descr=""/>
          <p:cNvPicPr/>
          <p:nvPr/>
        </p:nvPicPr>
        <p:blipFill>
          <a:blip r:embed="rId5"/>
          <a:stretch/>
        </p:blipFill>
        <p:spPr>
          <a:xfrm>
            <a:off x="11773080" y="9298080"/>
            <a:ext cx="838080" cy="29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evelop plan to expand user community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571320" y="2133360"/>
            <a:ext cx="11861640" cy="708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etermine audience and track data usage and impac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Journal articles, gray literature, popular media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mpare data uses with expectati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Research, education, policy-making, planning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mpare data users served with expectati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Disciplines and sub-disciplines of journals where data are cited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Communities (scientists, educators, students, decision-makers)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National and international (languages)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Identify gaps as opportunities for expans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Unmet expectations for data uses or users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evelop plan to address opportunities for expans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Promotional activities or events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Discovery opportunities (additional catalogs, search engine optimization)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New data products (subsets, maps, integrated data, translations, lessons)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New data services (simple analytical tools, advanced tools, visualization capabilities)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Identify criteria to measure success for each element of plan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Expansion of user community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571680" y="2324160"/>
            <a:ext cx="12432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Execute plan for expanding user community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ompare results of each expansion activity with success criteria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orrect or improve unsuccessful expansion activities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Track data usage and impact over time to identify improvement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Perform gap analysis to identify opportunities for expansion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Develop plans for continued expansion based on gap analysis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Periodically repeat user community expansion process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58720" y="2285640"/>
            <a:ext cx="1186200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Apache Software Foundation: Licenses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www.apache.org/licenses/</a:t>
            </a: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BSD License 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http://www.freebsd.org/copyright/license.html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hen, R. S. and Downs, R. R. 2010. Evaluating the Use and Impact of Scientific Data. Assessing The Usage and Value of Scholarly and Scientific Output: An Overview of Traditional and Emerging Metrics. Available online at http://info.nfais.org/info/ChenDownsNov10.pdf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reative Commons http://creativecommons.org/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Best Practices for Sharing Sensitive Environmental Geospatial Data http://www.geoconnections.org/publications/Key_documents/Sensitive_Env_Geo_Data_Guide_EN_v1.pdf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omputer Security Act of 1987. Available at http://csrc.nist.gov/groups/SMA/ispab/documents/csa_87.txt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onfidentiality Issues in Geospatial Data Applications. Available at http://sedac.ciesin.columbia.edu/confidentiality/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558720" y="2285640"/>
            <a:ext cx="1186200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Dealing With Sensitive Data. Available at http://www.dcc.ac.uk/events/research-data-management-forum/rdmf4-dealing-sensitive-dat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Downs, R. R., Schumacher, J., Chen, R. S., &amp; Lenhardt, W. C. 2008. Assessing the Scientific Benefits of Interdisciplinary Use of Social Science Data through Citation Analysis. International Association for Social Science Information Services &amp; Technology (IASSIST) 2008 Conference. Palo Alto, CA. May 28, 2008. https://www.stanford.edu/group/ADS/cgi-bin/drupal/system/files/DataCitationIASSIST20080528.ppt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ICPSR – Restricted Data. Available at http://www.icpsr.umich.edu/icpsrweb/ICPSR/access/restricted/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Guidelines for Providing Appropriate Access to Geospatial Data in Response to Security Concerns. Available at http://www.fgdc.gov/policyandplanning/Access%20Guidelines.pdf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Gnu Public Licenses (GPL &amp; LGPL) 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http://www.gnu.org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pen Data Foundation. Available at 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http://www.opendatafoundation.org/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United States Copyright Office. Available at  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http://www.copyright.gov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</a:rPr>
              <a:t>Working with your archive organization- overview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lecting an archive for your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reparing scientific data for archiving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ubmitting scientific data to archiv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Expanding your user communit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Identify data services needed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571320" y="2133360"/>
            <a:ext cx="11861640" cy="67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lvl="1"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Discovery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2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oes the archive serve potential users of the data?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Would users of the archive be interested in the data?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Will visitors to the archive find the data in the archive?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Dissemination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2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oes the archive disseminate similar kinds of data?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Will the archive provide a dedicated web page or services for data users?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User support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2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Will users of these data receive support from the archive?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Will the archive just refer questions to me or will they maintain the answers?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Tracking usage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2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Will the archive know whether and how the data are used?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Long-term acces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2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Will the archive manage the data over time and provide access in the future?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hoices for archiving scientific 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cientific data center or archiv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iscipline-specific or multidisciplinar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Organizational sustainabilit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stitutional repositor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Organizational affili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Institutional suppor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ublisher’s archiv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 associated with public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mmunity or commercial interes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an an archive be trusted?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558720" y="2133720"/>
            <a:ext cx="120398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Data management capabilitie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Track record for data management and ongoing dissemination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rofessions and disciplines in which staff have expertise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Organization and infrastructure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levance of organizational mission and strategy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Quality assurance (QA) and quality control (QC) policies &amp; procedures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urrent hardware and software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Recommendations, reviews, and assessment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commendations from data producers and data users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views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External or internal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tandards compliance assessments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Open Archival Information System (OAIS) Reference Model, Trustworthy Repository Audit and Certification: Criteria and Checklist (TRAC), ISO 16363  (Audit and Certification of Trustworthy Digital Repositories)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Establish relationship with archiv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mpatibility of data and mutually beneficial opportuniti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urrent community served and anticipated future communities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urrent and planned collections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urrent and planned data products and services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repare to cooperate on acquisition and development pla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view archive’s portfolio of collections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view archive’s data products and services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Identify needs for developing data into products or services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view relevant policies of archiv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iscuss intellectual property rights (and restrictions, if applicable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view procedure for data submiss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view submission information package specificati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ooperative planning with the archiv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9360">
            <a:solidFill>
              <a:srgbClr val="bfbfbf"/>
            </a:solidFill>
            <a:miter/>
          </a:ln>
        </p:spPr>
        <p:txBody>
          <a:bodyPr lIns="50760" rIns="50760" tIns="50760" bIns="50760" anchor="t">
            <a:normAutofit fontScale="97000"/>
          </a:bodyPr>
          <a:p>
            <a:pPr lvl="1"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ollection Planning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68976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Part of existing collection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68976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Establish new collection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3" marL="11206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Are multiple data products or services planned?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1"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issemination Planning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68976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Promotion activities and events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3" marL="11206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Based on intended audience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2" marL="68976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Discovery 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3" marL="11206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Catalogs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3" marL="11206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Search Engine Optimization (SEO)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2" marL="68976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Dissemination information package (DIP) contents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3" marL="11206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Data products 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3" marL="11206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Data services 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2" marL="68976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User support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3" marL="11206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Reference services (Interactive and asynchronous)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3" marL="11206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Frequently Asked Questions (FAQ)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2" marL="68976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Long-term preservation and access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3" marL="11206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Continuous reviews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repare Submission Information Packag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Identify data forma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Gather and package relevant information with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ntent standard to be used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Metadata standard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ocument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tudy descrip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escriptions of instruments and measur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User guid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ferences to relevant publicati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ttribution for project team, organizations, and sponsor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ights declarations (archive rights and user rights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ackaging forma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Submitting scientific data for archiving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558720" y="2209320"/>
            <a:ext cx="1186200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Ensure that the data are complet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Any errors have been corrected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iscrepancies between copies have been resolved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Versions maintained by team members have been consolidated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Updates to ancillary information have been reviewed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commendations for improvement have been followed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Verify that submission information package meets specificati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Follow procedure for data submiss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sk archive staff if you have questi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>Robert R Downs</dc:creator>
  <dc:description/>
  <dc:language>en-US</dc:language>
  <cp:lastModifiedBy>Carol Meyer</cp:lastModifiedBy>
  <dcterms:modified xsi:type="dcterms:W3CDTF">2011-12-06T02:52:36Z</dcterms:modified>
  <cp:revision>113</cp:revision>
  <dc:subject/>
  <dc:title>ESIP Federation 101</dc:title>
</cp:coreProperties>
</file>